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161-C1E6-4E6F-958E-2C3ADCE7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DA7-61EF-479C-BE43-7DF20382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4EC-53B3-45ED-8E10-DC6E11C3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BDE-19B5-4477-8BA8-CBF54B9D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045-0DB0-4871-BF8C-C68EC99E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2C5-DCC0-4E49-B404-84C4A58C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440-F5B4-4440-BEA6-7999D194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18F-C1D4-4288-972A-5C094ADE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1F6-550D-4540-8EA4-812B1982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3C2-D532-4997-A7C2-7AB190A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9AD-8743-4BDD-926C-65FD55E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527-EDBE-426D-8E5C-6FA41432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3AD1-1BC8-4857-B698-3CE79143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3749"/>
            </a:gs>
            <a:gs pos="100000">
              <a:srgbClr val="dd82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</a:rPr>
              <a:t>It’s Contagiou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0155" t="22917" r="74222" b="15627"/>
          <a:stretch/>
        </p:blipFill>
        <p:spPr>
          <a:xfrm>
            <a:off x="228600" y="1295280"/>
            <a:ext cx="2666880" cy="7620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8120" y="7010280"/>
            <a:ext cx="3504960" cy="191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24080" y="1447920"/>
            <a:ext cx="3505320" cy="53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UZE slenderize®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 comes in six invigorating infuzion flav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lueberry Raspbe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Tropical P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Tangerine Grapefr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ragonfruit L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ranberry Raspbe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Strawberry Me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ess than 10 calories per serving, and 4 crucial vitamins and minerals in every sip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-Consider yourself slenderized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UZE slenderize® It’s Contagiou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3:16:58Z</dcterms:created>
  <dc:creator>WPS</dc:creator>
  <dc:description/>
  <dc:language>en-US</dc:language>
  <cp:lastModifiedBy>WPS</cp:lastModifiedBy>
  <dcterms:modified xsi:type="dcterms:W3CDTF">2008-06-02T12:57:41Z</dcterms:modified>
  <cp:revision>7</cp:revision>
  <dc:subject/>
  <dc:title>It’s Contagious!</dc:title>
</cp:coreProperties>
</file>